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22.wmf" ContentType="image/x-wmf"/>
  <Override PartName="/ppt/media/image26.gif" ContentType="image/gif"/>
  <Override PartName="/ppt/media/image20.png" ContentType="image/png"/>
  <Override PartName="/ppt/media/image1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6.jpeg" ContentType="image/jpeg"/>
  <Override PartName="/ppt/media/image9.wmf" ContentType="image/x-wmf"/>
  <Override PartName="/ppt/media/image31.wmf" ContentType="image/x-wmf"/>
  <Override PartName="/ppt/media/image35.gif" ContentType="image/gif"/>
  <Override PartName="/ppt/media/image38.jpeg" ContentType="image/jpeg"/>
  <Override PartName="/ppt/media/image17.wmf" ContentType="image/x-wmf"/>
  <Override PartName="/ppt/media/image32.jpeg" ContentType="image/jpeg"/>
  <Override PartName="/ppt/media/image33.wmf" ContentType="image/x-wmf"/>
  <Override PartName="/ppt/media/image29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5.wmf" ContentType="image/x-wmf"/>
  <Override PartName="/ppt/media/image16.jpeg" ContentType="image/jpeg"/>
  <Override PartName="/ppt/media/image30.wmf" ContentType="image/x-wmf"/>
  <Override PartName="/ppt/media/image34.gif" ContentType="image/gif"/>
  <Override PartName="/ppt/media/image37.wmf" ContentType="image/x-wmf"/>
  <Override PartName="/ppt/media/image7.png" ContentType="image/png"/>
  <Override PartName="/ppt/media/image15.wmf" ContentType="image/x-wmf"/>
  <Override PartName="/ppt/media/image12.wmf" ContentType="image/x-wmf"/>
  <Override PartName="/ppt/media/image8.png" ContentType="image/png"/>
  <Override PartName="/ppt/media/image10.wmf" ContentType="image/x-wmf"/>
  <Override PartName="/ppt/media/image2.png" ContentType="image/png"/>
  <Override PartName="/ppt/media/image4.wmf" ContentType="image/x-wmf"/>
  <Override PartName="/ppt/media/image1.png" ContentType="image/png"/>
  <Override PartName="/ppt/media/image14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16D-34DC-46E7-BE75-CB186DF3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136-FE5A-4B3E-A075-004CA542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573-794D-4891-BF93-BBFDE121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BF0-AE06-433C-A1FB-3E0F79AC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B81D-7218-4F3A-857D-A54737B8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7041-F0E2-4810-9614-DB0EA238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D794-E700-4B62-91AE-83B4D396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E35D-F902-4552-AF53-33644468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88EF-2400-4BC0-AE9E-EBBC661A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E8DB-3988-44E6-80C8-3CDA1978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97A1-3BCC-4C89-AAAD-67F156BA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ABC-F017-4265-9F3F-7970FF16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1B77-26EA-4442-B9CC-EBA088E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4E39-579B-4D22-80DF-1134899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A6CE-55A4-441C-B914-9A0363E6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C288-6EED-413C-95EC-CA5A30B3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9912-2A83-4B71-9D7C-4A76578F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7D6-7922-46BB-9776-0A0BAAB5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F4E-3929-4F57-82B2-5F319160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7AB-A6C7-4219-B71D-A56615B3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DDA-D619-40DA-9056-837E2135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DDD-A660-4807-9805-494E8D6B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AE5-1AA5-4E01-BCBD-F7FE8ED6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C1E-9468-4B94-8DF6-E57148F4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282B-CE47-482D-A674-E99193A9FA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11AF-371B-49E4-B220-AE9D23A531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cial Heal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it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6384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to get along with other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 loyal, truthful, and dependable fr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or other people’s feel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other people’s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o disagree without argu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o resolve conflicts effe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upport and help when it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7021440" y="4983120"/>
            <a:ext cx="14652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Healthful Friendship (CSHE p. 15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healthful friendship is a balanced relationship that promotes mutual respect and healthful behavi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ing healthful friendships improves the quality of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 take a personal interest in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upport each other in their successes and encourage each other during difficult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riend is a gift you give yourself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friends share interests, help each other solve problems, teach each other new things and help each other feel good about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ave a friend, you must be a frien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new friends takes time and effort, but it is worth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343400" y="4871880"/>
            <a:ext cx="29703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itiating Friend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initiating a friendship, it is smart to make a background check on the person. There are questions young people should ask themselves about a prospective fri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I know about this per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is person have good charac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my parents or guardians know this per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my parents or guardians approve of my spending time with this per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rying on a Convers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young people worry about how to talk with another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 in developing new friendships often depends on having the ability to carry on a convers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876920" y="4343400"/>
            <a:ext cx="35542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sation Keep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ing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ing interest in what someone else is sa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carefu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ing to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ing other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correct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ing anoth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your ideas and fee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ing someone to t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eye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sation Kill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ing about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aring disinterested in what someone else is sa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rupting 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the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a know-it-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slang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ing about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ting the conver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ing eye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ling Rej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experiences rejection at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jection is the feeling of being unwelcome or unwa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hould a person respond to reje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rt, anger, or disappointment should be expressed in a healthful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I-messages to share your feelings with the person who rejected your gestures of friend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your feelings with a trusted adult if you are unable t share them with the person who rejected your friendship ges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ffirm your high self-worth even when a person rejects your friend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lanced Friend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iendship requires the commitment of two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balanced friendship is a friendship in which two people give to and receive from each other acts of kind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and receiving are valuable to a friend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to Giv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ing when a friend is discour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ing a friend celebrate a su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ying a friend a special gift on a special occa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nyone think of any mo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791320" y="4495680"/>
            <a:ext cx="29890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a healthful relationsh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A relationship between two people who eat healt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A relationship between two people who care about each other and respect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A relationship between two people who exercise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A relationship between two people who study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393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to Rece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ing to a friend’s compl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ing a friend’s gif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ing a friend’s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friend goes the extra mile, a person should express grat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477120" y="5029200"/>
            <a:ext cx="16556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-Sided Friend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one-sided friendship is a friendship in which one person does most of the giving and the other person does most of the rece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t least 2 reasons why a person might choose to do most of the giving in a friend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, people who do most of the giving in a friendship may be people plea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eople pleaser is a person who constantly seeks the approval of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Rea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o not know how to receive acts of kindness from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uncomfortable accepting gifts of time or support from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never learned to rely on others to meet any of their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y play the role of the giver in most of their relations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into a group of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perform a skit on one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-sided friend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r role in the friend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r role in the friend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lanced friend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ople plea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* DO NOT tell the class which skit you are do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137280" y="3008160"/>
            <a:ext cx="26845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 2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people pleaser is someone wh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. Speaks at ev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Likes to please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Seeks the approval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. Wants to be liked and noticed by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. All of the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. All of the above, except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alth Goal # 4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develop skills to communicate appropriately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29228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ding Friendships p. 156 CS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friends is a part of growing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hange for many reas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iend may move away and not keep in t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iend may break confidence and the relationship is never the same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interests change, and new friends replace old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ing Friend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there are times when a person needs to be objective about a friend and decide if that person truly is a fri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, if a friend regularly encourages wrong actions or actions contrary to one’s own values, it might be time to end the friend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ng Skills 10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O NOT base your self-worth on your ability to get a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Ask questions and get the facts before accepting a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Decline a date when there will be pressure to do things against your own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Honor your dating commitments and don’t change your plans if someone “better” comes alo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ng 10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Recognize the advantages of dating a variety of people rather than going st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en years provide an opportunity to practice dating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80988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Make a fast exit from a date when you find yourself in a situation that violates your parents’ or guardian’s guide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aster you leave a bad situation, the bet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869160" y="130320"/>
            <a:ext cx="17953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alth Goal # 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develop healthful friends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76720" y="3048120"/>
            <a:ext cx="2092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ng 10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Don’t hesitate to call your parents or guardian if you’re on a date and need hel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Feel comfortable about staying home when you don’t want to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Be clear about your expectations when you give or receive a gift in a dating sit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238880" y="5345280"/>
            <a:ext cx="15908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ng 10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Be honest and kind when you turn someone down for a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ituation should be handled with lass and is an opportunity for you to practice social gr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 the person for the invi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st policy is to avoid dishones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781680" y="5334120"/>
            <a:ext cx="186552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ationships (Frien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relationship is a connection a person has with another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’s health status is affected by the quality of the relationships he/she has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healthful relationship is a relationship that promotes self-respect, encourages productivity and health, and is free of violence or drug misuse and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rmful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harmful relationship is a relationship that harms self-respect, interferes with productivity and health, and includes violence or drug misuse and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plea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pleaser constantly seeks the approval of others. A people pleaser will do almost anything to be liked, including harmful behavior such as using alcohol or other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ople Pleas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people describe people pleasers as “doormats” because others can walk all over them with no consequ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pleasers sabotage their chances to have healthful relationships because others do not respec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69739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ab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enabler supports others’ harmful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abler might deny or overlook another person’s harmful behavior, such as drinking, gambling or cheating, and make excuses or cover up for that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abler might contribute to another person’s harmful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553080" y="5410080"/>
            <a:ext cx="11289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li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clinger is needy and depend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inger feels empty inside and constantly turns to another person to feel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linger has this person’s attention or affection, the clinger feels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gers sabotage their chances to have healthful relationships by not giving other people sp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4038480" y="5105520"/>
            <a:ext cx="1219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ix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xer tries to fix other people’s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rs take on problems that are not their responsibility but are the responsibility of another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rs are quick to give advice. They will identify different possible solutions to the other person’s problems and try them for the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process of getting involved with other people’s problems, fixers avoid their own feelings and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7532640" y="5029200"/>
            <a:ext cx="1295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stanc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distancer is emotionally unavailable to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tancer keeps other people from getting too close in a number of ways, such as being too busy to spend time with other people and avoiding sharing feel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rs keep other people at a distance to avoid getting hu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rs sabotage their chances to have a healthy relationship by not risking emotional invol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400800" y="5410080"/>
            <a:ext cx="18208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ntro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controller is possessive, jealous, and dominee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troller seeks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rs might tell another person what to do, what to wear, and what to believe, and they do not like to share the object of their attention with anyone e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rs sabotage their chances to have healthful relationships by not respecting the interests or opinions of others and trying to dominat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7832880" y="4838760"/>
            <a:ext cx="1311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Education.c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ypical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They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eleven-year-old is heading towards adolescence. H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more self-assertion and curios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socially expansive and awa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physically exuberant, restless, wiggly, and talks a lo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a range and intensity of emo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moody and easily frustrat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relate feeling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competitive, wants to excel, and may put down the "out group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hibits "off-color" humor and sillines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ses and tussles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6510240" y="5254560"/>
            <a:ext cx="17589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e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enter is self-cent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lmost as if the center is wearing a badge that says, “ME, ME,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s sabotage their chances to have healthful relationships by focusing on being the center of attention and ignoring others’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29718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bus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abuser is a person who is abu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user might constantly put others down or harm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user might threaten, begin fights, and act in other violent ways, such as forcing another person to do something they don’t want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users sabotage their chances of having healthful relationships by threatening or harming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iar does not tell th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esty is a foundation in any healthful relationship – people base many of their responses to others o what others tell them in conversation and a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liar does not tell the truth, other people respond based on false information, doing and saying things they might not have done or said had they known th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exactly what the liar wan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ars sabotage their chances at having a healthful relationship by lying to others to get the response they w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mise Break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mise breaker is not rel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mise breaker will make pans with another person and then be a “no show,” opting instead to do something better than has come a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 breakers sabotage their chances at having healthful relationships by not keeping their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52578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A Promise Breaker &amp; A People Plea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e promise breaker makes plans to go to a movie with a people pleaser. What happe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into a group of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EACH choose a “profile” of a harmful relatio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People pleaser, enabler, clinger, fixer, distancer, controller, center, abuser, liar, promise break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, you will act out a “MATCH U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 3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of the following profiles is that of a person who is needy and depend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Fix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Dist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Cl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alth Goal # 4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develop skills to adequately listen to others before jumping to conc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7814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3149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Group of Friends vs. A Cl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ing out friendship is part of growing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great to have a BFF or a group of pals to hang out w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part of a group can help make your day easier to deal with — and you can learn some great life skills like being a good listener, sharing experiences, and respecting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can form around things people have in comm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jocks, goths, preps, skaters, and even the math club are naturally drawn together because they share similar inter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in these groups feel they have a place where they are welcome and supported, and where they can be themselves, quirks and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eople form groups from being in drama club, or liking the same music or movies, or even just because they like to hang out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ypical 6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Grade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hey’re going: At eleven years old, the child is making the transition to adolescence. Help by encouraging her as sh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es with chang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s to adolesce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on her interpersonal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peer groups and press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personal interests and abilit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on greater responsibility for her behavior and decision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561000" y="5334120"/>
            <a:ext cx="14223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groups stick together for a long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drift apart after a while as people develop new interests, make different friends, or just find they have less in comm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 move in and out of different groups and can even be part of several at the same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within a group, people often have one or two friends they feel closest to and enjoy the m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riendship groups seem pretty flexible and welcome people to join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seem much more restricted, thoug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in these groups make it clear that not just anyone can be part of their crow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ype of restricted group is sometimes called a cl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deal with cliqu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ques are tight groups that usually have a strict code of membership and ways to a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being centered on shared values and beliefs, many cliques tend to focus on maintaining their status and popular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nstance, a certain clique may try to make it seem like the people in the clique are "better" than those outside, or that their clique is higher status than another cl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in cliques sometimes use their power to hurt others on purpose, either by excluding them, being mean, or bo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they might insult people by trying to "fix" them or give them "makeovers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it becomes more serious and someone outside the group is targeted or victimized for being, looking, or acting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ike regular groups of friends, where members are free to socialize with others outside the group, people in cliques do everything toge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it together in class, go to the mall together after school — and they only do stuff with other clique members or people they decide are "cool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people might think it's better to belong to a clique than to be excluded, many times people in cliques end up dealing with lots of pressures and ru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oon start to worry about whether they'll continue to be popular or whether they'll be dropp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 while, they may begin to realize that true friends wouldn't be so bossy or dema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626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View from the Insid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's not all roses inside a clique either. A person's standing within the group can always be under threa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followers cling to the leader not out of true friendship but because they want to keep their position in the gro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even the leader can lose her pow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lling in a cliqu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act, the queen bee in a strong girl clique probably worries as much — or even more — about being popular and accepted as the outsiders d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no one feels secure, clique members often use the tools of flattery, humiliation, or rumors to manipulate situations and preserve their st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 Confid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w girls manage to stay friends with people both inside and outside the cliq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at can be hard to do because there's often intense pressure from the group to be friends only with people on the approved li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a lot of self-confidence to dare to be friends with someone outside the cl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ypical 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Gra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They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The average twelve-year-old is entering the stage in between childish and mature behavior. H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spirited and enthusiasti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"stay put" longer and exercise self-contro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a growing sense of intuition and insight into self and oth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less moody and may become good-natured around adul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increasingly self-reliant and self-cente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curious but not ready for long-term plann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strong desire to be like peer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848720" y="5257800"/>
            <a:ext cx="998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ing Cl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 yourself — and your repu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is a time for getting in touch with your values, interests, and belief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're encountering cliques, it's a good opportunity to ask yourself some self-discovery questions about what you and your true friends give each o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180120" y="4749840"/>
            <a:ext cx="14698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ing Cl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y involved in activities that make you feel good about you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're in a clique, don't let the group pressure you into giving up things you love or spending time and money on things that aren't important to yo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're on the outside and feeling left out, getting involved in things that interest you is a great way to find a sense of belonging, help you feel valued, and take your mind off a group that's not welcom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ing Cl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ep your social circles open and divers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ques can be very limiting in the way they control how members look, think, dress, and beha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let them make you miss out on getting to know people who may become close frie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're on the outside, it can help to find a close friend or group of friends whose values, goals, and behaviors fit in with you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ing Cl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ak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feel your group of friends is turning into a clique, take a stand for your belief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prepared that the clique might go on without you (remember those girls who feel threatened by someone else's strength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re's also a chance that others might follow your lead and stop acting so clique-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7162920" y="685800"/>
            <a:ext cx="10922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ing Cl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a mind of your 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ensitive to others and don't go along with what you don't believe is right — even if others are doing 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only one responsible for how you act. True friends will respect your mind, your rights, and your independent choi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if someone tells you to do something that is "just a joke," say no if you know it's not right. Try not to be intimid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75248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eal Secr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 good friend yoursel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who enjoy true and lasting popularity are those who have good friendship ski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a friend means being respectful, fair, interested, trustworthy, honest, caring, and ki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f you want to have friends, be just the kind of friend you'd like to have and stay true to who you 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one page paper on the type of friend you want to 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in when finis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good day!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ypical 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Gra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age the child is learning how to be independent as she undergoes many changes. Help by encouraging her as sh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s to cope with chang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the transition to adolesce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on interpersonal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s to peer groups and press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her personal interests and abilit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ns a greater sense of responsibility for her behavior and decision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14623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Typical 8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Gra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atness is a key issue with personal appearance, but not with personal environmen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irror is their best friend and worst enem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ds this age are often quieter than 12- or 14-year-old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y like to be left alone at hom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ir feelings are easily hurt and they can easily hurt other's feeling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ds this age are often mean when they're scar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se friendships are often more important to girl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ys hang out in group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rls are more interested in older boy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th genders have a strong interest in sport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ephone, computer, video games, and other electronic diversions are a major time facto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 is becoming a major preoccupat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er pressure increases regarding dress, language, music, in-out, being coo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ds this age worry about schoo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ir humor is highlighted by increasing sarcas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rseplay and practical jokes are still popular with boy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rls enjoy collecting things (jewelry, make-up, CD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7971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ocial Health? P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ing (keeping) social health means taking care of the ways in which you get along with othe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do this in the following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friendly, open attitude toward other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communicate eff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 and care for family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467480" y="5410080"/>
            <a:ext cx="1424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03:54:50Z</dcterms:created>
  <dc:creator>Hope Whiting</dc:creator>
  <dc:description/>
  <dc:language>en-US</dc:language>
  <cp:lastModifiedBy>Hope Whiting</cp:lastModifiedBy>
  <dcterms:modified xsi:type="dcterms:W3CDTF">2011-06-22T18:10:23Z</dcterms:modified>
  <cp:revision>8</cp:revision>
  <dc:subject/>
  <dc:title>Social Health</dc:title>
</cp:coreProperties>
</file>